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11.gif" ContentType="image/gif"/>
  <Override PartName="/ppt/media/image9.png" ContentType="image/png"/>
  <Override PartName="/ppt/media/image13.jpeg" ContentType="image/jpeg"/>
  <Override PartName="/ppt/media/image16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E70-AE3F-476F-AD21-1907196E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438-DB6C-48C6-A572-9170748B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4CE-A2EF-4C46-A89D-1B76D686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4EB-4609-4AA2-9AE4-9E5567DE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C8B8-E771-4C0B-AAB9-94F4617B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32EE-E4A2-49C1-A24F-72561C6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0A0A-82C9-4BDB-A85A-FB4AC12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DB5C-21E6-495A-87D1-D46C9448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875E-25B6-407E-963B-961178C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5DC3-C5EC-4594-9B40-E060201B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8E10-958D-4BDB-9717-958171BA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7F22-2765-4B10-B16B-1D4C381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7BA3-6946-45CA-BEA6-3F884F94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E4DF-E161-4833-8BE2-369F222C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5DCD-BDF5-4DA0-A7EC-B5DC0525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46691-3C65-43E9-AF4B-69AD85FC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0111-3C8F-46EE-A8EE-6A1A6627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222-569D-4165-B583-654E7DAA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B0D-6D85-40C9-86E9-1C3A29E0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900A-EBCD-4642-8910-23C7E5BF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5D7-DC18-4E3D-A220-DACD7A2D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1B2-68C0-4139-85E2-AE79695A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B5F8-6C14-4342-A6F2-B8C45A56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0AA-CA57-4955-A38D-9605457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73A-C157-4D32-B619-8B7F76024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4EF-D0A8-41A1-AD88-9B1E90BD9F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图片 61446" descr="学英语报社社标s"/>
          <p:cNvPicPr/>
          <p:nvPr/>
        </p:nvPicPr>
        <p:blipFill>
          <a:blip r:embed="rId2"/>
          <a:stretch/>
        </p:blipFill>
        <p:spPr>
          <a:xfrm>
            <a:off x="0" y="6622920"/>
            <a:ext cx="611280" cy="23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合 62465"/>
          <p:cNvGrpSpPr/>
          <p:nvPr/>
        </p:nvGrpSpPr>
        <p:grpSpPr>
          <a:xfrm>
            <a:off x="1066680" y="3048120"/>
            <a:ext cx="4320720" cy="2430000"/>
            <a:chOff x="1066680" y="3048120"/>
            <a:chExt cx="4320720" cy="2430000"/>
          </a:xfrm>
        </p:grpSpPr>
        <p:pic>
          <p:nvPicPr>
            <p:cNvPr id="84" name="Picture 3" descr="图片3"/>
            <p:cNvPicPr/>
            <p:nvPr/>
          </p:nvPicPr>
          <p:blipFill>
            <a:blip r:embed="rId2"/>
            <a:stretch/>
          </p:blipFill>
          <p:spPr>
            <a:xfrm>
              <a:off x="1066680" y="3048120"/>
              <a:ext cx="42386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4"/>
            <p:cNvSpPr/>
            <p:nvPr/>
          </p:nvSpPr>
          <p:spPr>
            <a:xfrm>
              <a:off x="1474200" y="4079880"/>
              <a:ext cx="391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Section 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99"/>
                  </a:solidFill>
                  <a:latin typeface="Verdana"/>
                </a:rPr>
                <a:t>Period Tw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图片 62468" descr="学英语报社社标s"/>
          <p:cNvPicPr/>
          <p:nvPr/>
        </p:nvPicPr>
        <p:blipFill>
          <a:blip r:embed="rId3"/>
          <a:stretch/>
        </p:blipFill>
        <p:spPr>
          <a:xfrm>
            <a:off x="0" y="0"/>
            <a:ext cx="611280" cy="235080"/>
          </a:xfrm>
          <a:prstGeom prst="rect">
            <a:avLst/>
          </a:prstGeom>
          <a:ln w="0">
            <a:noFill/>
          </a:ln>
        </p:spPr>
      </p:pic>
      <p:sp>
        <p:nvSpPr>
          <p:cNvPr id="87" name="矩形 62469"/>
          <p:cNvSpPr/>
          <p:nvPr/>
        </p:nvSpPr>
        <p:spPr>
          <a:xfrm>
            <a:off x="914400" y="1066680"/>
            <a:ext cx="701028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Unit 9</a:t>
            </a:r>
            <a:r>
              <a:rPr b="1" lang="en-US" sz="48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 does he look lik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950760" y="380880"/>
            <a:ext cx="8498160" cy="1574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Write answers to these questions about different people. Then tell your partner about the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7410"/>
          <p:cNvSpPr/>
          <p:nvPr/>
        </p:nvSpPr>
        <p:spPr>
          <a:xfrm>
            <a:off x="611280" y="2060640"/>
            <a:ext cx="7993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your favorite actor or actress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your favorite teacher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17411"/>
          <p:cNvSpPr/>
          <p:nvPr/>
        </p:nvSpPr>
        <p:spPr>
          <a:xfrm>
            <a:off x="266760" y="38088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3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24000" y="1279440"/>
            <a:ext cx="8497800" cy="15746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escribe someone in the class. Ask your classmates to guess who you are describ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圆角矩形标注 18434"/>
          <p:cNvSpPr/>
          <p:nvPr/>
        </p:nvSpPr>
        <p:spPr>
          <a:xfrm>
            <a:off x="2987640" y="2924280"/>
            <a:ext cx="4176720" cy="1512720"/>
          </a:xfrm>
          <a:prstGeom prst="wedgeRoundRectCallout">
            <a:avLst>
              <a:gd name="adj1" fmla="val -48212"/>
              <a:gd name="adj2" fmla="val 70249"/>
              <a:gd name="adj3" fmla="val 16667"/>
            </a:avLst>
          </a:prstGeom>
          <a:solidFill>
            <a:srgbClr val="ccff33">
              <a:alpha val="9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person is of medium height. She has short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6-013-4"/>
          <p:cNvPicPr/>
          <p:nvPr/>
        </p:nvPicPr>
        <p:blipFill>
          <a:blip r:embed="rId2"/>
          <a:stretch/>
        </p:blipFill>
        <p:spPr>
          <a:xfrm>
            <a:off x="755640" y="3500280"/>
            <a:ext cx="2490840" cy="2953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0399"/>
          <p:cNvPicPr/>
          <p:nvPr/>
        </p:nvPicPr>
        <p:blipFill>
          <a:blip r:embed="rId3"/>
          <a:stretch/>
        </p:blipFill>
        <p:spPr>
          <a:xfrm>
            <a:off x="7596360" y="189000"/>
            <a:ext cx="114912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14240" y="304920"/>
            <a:ext cx="2735280" cy="764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ff"/>
                </a:solidFill>
                <a:latin typeface="Arial"/>
              </a:rPr>
              <a:t>Pai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3" descr="gif041.gif"/>
          <p:cNvPicPr/>
          <p:nvPr/>
        </p:nvPicPr>
        <p:blipFill>
          <a:blip r:embed="rId4"/>
          <a:stretch/>
        </p:blipFill>
        <p:spPr>
          <a:xfrm>
            <a:off x="3457440" y="304920"/>
            <a:ext cx="1800360" cy="958680"/>
          </a:xfrm>
          <a:prstGeom prst="rect">
            <a:avLst/>
          </a:prstGeom>
          <a:ln w="0">
            <a:noFill/>
          </a:ln>
        </p:spPr>
      </p:pic>
      <p:sp>
        <p:nvSpPr>
          <p:cNvPr id="136" name="椭圆 18439"/>
          <p:cNvSpPr/>
          <p:nvPr/>
        </p:nvSpPr>
        <p:spPr>
          <a:xfrm>
            <a:off x="0" y="380880"/>
            <a:ext cx="723960" cy="579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2"/>
          <p:cNvSpPr/>
          <p:nvPr/>
        </p:nvSpPr>
        <p:spPr>
          <a:xfrm>
            <a:off x="0" y="3009960"/>
            <a:ext cx="9144000" cy="3659040"/>
          </a:xfrm>
          <a:custGeom>
            <a:avLst/>
            <a:gdLst/>
            <a:ahLst/>
            <a:rect l="l" t="t" r="r" b="b"/>
            <a:pathLst>
              <a:path w="2584" h="3854">
                <a:moveTo>
                  <a:pt x="268" y="86"/>
                </a:moveTo>
                <a:cubicBezTo>
                  <a:pt x="527" y="0"/>
                  <a:pt x="309" y="68"/>
                  <a:pt x="1012" y="86"/>
                </a:cubicBezTo>
                <a:cubicBezTo>
                  <a:pt x="1084" y="88"/>
                  <a:pt x="1156" y="96"/>
                  <a:pt x="1228" y="98"/>
                </a:cubicBezTo>
                <a:cubicBezTo>
                  <a:pt x="1512" y="104"/>
                  <a:pt x="1796" y="106"/>
                  <a:pt x="2080" y="110"/>
                </a:cubicBezTo>
                <a:cubicBezTo>
                  <a:pt x="2096" y="126"/>
                  <a:pt x="2110" y="144"/>
                  <a:pt x="2128" y="158"/>
                </a:cubicBezTo>
                <a:cubicBezTo>
                  <a:pt x="2151" y="176"/>
                  <a:pt x="2200" y="206"/>
                  <a:pt x="2200" y="206"/>
                </a:cubicBezTo>
                <a:cubicBezTo>
                  <a:pt x="2247" y="276"/>
                  <a:pt x="2270" y="355"/>
                  <a:pt x="2296" y="434"/>
                </a:cubicBezTo>
                <a:cubicBezTo>
                  <a:pt x="2311" y="566"/>
                  <a:pt x="2329" y="697"/>
                  <a:pt x="2344" y="830"/>
                </a:cubicBezTo>
                <a:cubicBezTo>
                  <a:pt x="2350" y="882"/>
                  <a:pt x="2347" y="935"/>
                  <a:pt x="2356" y="986"/>
                </a:cubicBezTo>
                <a:cubicBezTo>
                  <a:pt x="2364" y="1032"/>
                  <a:pt x="2397" y="1088"/>
                  <a:pt x="2416" y="1130"/>
                </a:cubicBezTo>
                <a:cubicBezTo>
                  <a:pt x="2449" y="1204"/>
                  <a:pt x="2468" y="1280"/>
                  <a:pt x="2488" y="1358"/>
                </a:cubicBezTo>
                <a:cubicBezTo>
                  <a:pt x="2516" y="1608"/>
                  <a:pt x="2511" y="1753"/>
                  <a:pt x="2524" y="2054"/>
                </a:cubicBezTo>
                <a:cubicBezTo>
                  <a:pt x="2526" y="2106"/>
                  <a:pt x="2553" y="2169"/>
                  <a:pt x="2560" y="2222"/>
                </a:cubicBezTo>
                <a:cubicBezTo>
                  <a:pt x="2569" y="2286"/>
                  <a:pt x="2584" y="2414"/>
                  <a:pt x="2584" y="2414"/>
                </a:cubicBezTo>
                <a:cubicBezTo>
                  <a:pt x="2580" y="2594"/>
                  <a:pt x="2583" y="2774"/>
                  <a:pt x="2572" y="2954"/>
                </a:cubicBezTo>
                <a:cubicBezTo>
                  <a:pt x="2570" y="2984"/>
                  <a:pt x="2535" y="3012"/>
                  <a:pt x="2524" y="3038"/>
                </a:cubicBezTo>
                <a:cubicBezTo>
                  <a:pt x="2509" y="3073"/>
                  <a:pt x="2500" y="3110"/>
                  <a:pt x="2488" y="3146"/>
                </a:cubicBezTo>
                <a:cubicBezTo>
                  <a:pt x="2473" y="3192"/>
                  <a:pt x="2410" y="3244"/>
                  <a:pt x="2380" y="3278"/>
                </a:cubicBezTo>
                <a:cubicBezTo>
                  <a:pt x="2371" y="3289"/>
                  <a:pt x="2363" y="3301"/>
                  <a:pt x="2356" y="3314"/>
                </a:cubicBezTo>
                <a:cubicBezTo>
                  <a:pt x="2347" y="3330"/>
                  <a:pt x="2343" y="3348"/>
                  <a:pt x="2332" y="3362"/>
                </a:cubicBezTo>
                <a:cubicBezTo>
                  <a:pt x="2289" y="3413"/>
                  <a:pt x="2218" y="3446"/>
                  <a:pt x="2164" y="3482"/>
                </a:cubicBezTo>
                <a:cubicBezTo>
                  <a:pt x="2143" y="3496"/>
                  <a:pt x="2125" y="3515"/>
                  <a:pt x="2104" y="3530"/>
                </a:cubicBezTo>
                <a:cubicBezTo>
                  <a:pt x="2073" y="3551"/>
                  <a:pt x="2040" y="3570"/>
                  <a:pt x="2008" y="3590"/>
                </a:cubicBezTo>
                <a:cubicBezTo>
                  <a:pt x="1924" y="3643"/>
                  <a:pt x="1870" y="3702"/>
                  <a:pt x="1768" y="3722"/>
                </a:cubicBezTo>
                <a:cubicBezTo>
                  <a:pt x="1617" y="3823"/>
                  <a:pt x="1427" y="3825"/>
                  <a:pt x="1252" y="3842"/>
                </a:cubicBezTo>
                <a:cubicBezTo>
                  <a:pt x="1208" y="3846"/>
                  <a:pt x="1120" y="3854"/>
                  <a:pt x="1120" y="3854"/>
                </a:cubicBezTo>
                <a:cubicBezTo>
                  <a:pt x="996" y="3850"/>
                  <a:pt x="872" y="3849"/>
                  <a:pt x="748" y="3842"/>
                </a:cubicBezTo>
                <a:cubicBezTo>
                  <a:pt x="680" y="3838"/>
                  <a:pt x="717" y="3824"/>
                  <a:pt x="652" y="3806"/>
                </a:cubicBezTo>
                <a:cubicBezTo>
                  <a:pt x="605" y="3793"/>
                  <a:pt x="555" y="3795"/>
                  <a:pt x="508" y="3782"/>
                </a:cubicBezTo>
                <a:cubicBezTo>
                  <a:pt x="341" y="3736"/>
                  <a:pt x="522" y="3775"/>
                  <a:pt x="376" y="3746"/>
                </a:cubicBezTo>
                <a:cubicBezTo>
                  <a:pt x="352" y="3734"/>
                  <a:pt x="326" y="3725"/>
                  <a:pt x="304" y="3710"/>
                </a:cubicBezTo>
                <a:cubicBezTo>
                  <a:pt x="240" y="3667"/>
                  <a:pt x="179" y="3542"/>
                  <a:pt x="148" y="3470"/>
                </a:cubicBezTo>
                <a:cubicBezTo>
                  <a:pt x="130" y="3428"/>
                  <a:pt x="112" y="3338"/>
                  <a:pt x="112" y="3338"/>
                </a:cubicBezTo>
                <a:cubicBezTo>
                  <a:pt x="59" y="2484"/>
                  <a:pt x="0" y="1625"/>
                  <a:pt x="208" y="794"/>
                </a:cubicBezTo>
                <a:cubicBezTo>
                  <a:pt x="226" y="629"/>
                  <a:pt x="223" y="246"/>
                  <a:pt x="256" y="146"/>
                </a:cubicBezTo>
                <a:cubicBezTo>
                  <a:pt x="252" y="126"/>
                  <a:pt x="235" y="104"/>
                  <a:pt x="244" y="86"/>
                </a:cubicBezTo>
                <a:cubicBezTo>
                  <a:pt x="251" y="71"/>
                  <a:pt x="276" y="74"/>
                  <a:pt x="292" y="74"/>
                </a:cubicBezTo>
                <a:cubicBezTo>
                  <a:pt x="301" y="74"/>
                  <a:pt x="276" y="82"/>
                  <a:pt x="268" y="86"/>
                </a:cubicBez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68360" y="3500280"/>
            <a:ext cx="8064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Meet me at the station at eight o’clock this evening. Come to the newsagent’s. Carry a green bag and a red rose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I’m quite tall and I’ve got long brown hair and brown eyes. I’ve also got glasses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268360" y="13500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d and gu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24000" y="950760"/>
            <a:ext cx="85690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00cc"/>
                </a:solidFill>
                <a:latin typeface="Times New Roman"/>
              </a:rPr>
              <a:t>Read this note. Then write a similar note describing someone in your class. Read your partner’s description. Guess who it describe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28673"/>
          <p:cNvSpPr/>
          <p:nvPr/>
        </p:nvSpPr>
        <p:spPr>
          <a:xfrm>
            <a:off x="324000" y="757080"/>
            <a:ext cx="8640720" cy="47019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汉语补全英语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而且他的确帅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he’s really 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【解析】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ndsome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“帅；帅气”，多用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描述男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handsom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帅气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rett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“漂亮；靓丽”，多用于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描述女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t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ittle gir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个漂亮的小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t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ace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张漂亮的脸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8674"/>
          <p:cNvSpPr/>
          <p:nvPr/>
        </p:nvSpPr>
        <p:spPr>
          <a:xfrm>
            <a:off x="3348000" y="19162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nd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8678"/>
          <p:cNvSpPr txBox="1"/>
          <p:nvPr/>
        </p:nvSpPr>
        <p:spPr>
          <a:xfrm>
            <a:off x="2971800" y="0"/>
            <a:ext cx="3581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anguage points 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30721"/>
          <p:cNvSpPr txBox="1"/>
          <p:nvPr/>
        </p:nvSpPr>
        <p:spPr>
          <a:xfrm>
            <a:off x="2617920" y="1447920"/>
            <a:ext cx="3671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cc33"/>
                  </a:solidFill>
                  <a:round/>
                </a:ln>
                <a:solidFill>
                  <a:srgbClr val="ff6699"/>
                </a:solidFill>
                <a:latin typeface="Arial"/>
              </a:rPr>
              <a:t>Quiz</a:t>
            </a:r>
            <a:endParaRPr b="1" lang="en-US" sz="1800" spc="1" strike="noStrike">
              <a:ln w="9360">
                <a:solidFill>
                  <a:srgbClr val="33cc33"/>
                </a:solidFill>
                <a:round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pic>
        <p:nvPicPr>
          <p:cNvPr id="145" name="图片 30722" descr="u=3880771491,2905302234&amp;fm=0&amp;gp=0[1]"/>
          <p:cNvPicPr/>
          <p:nvPr/>
        </p:nvPicPr>
        <p:blipFill>
          <a:blip r:embed="rId2"/>
          <a:stretch/>
        </p:blipFill>
        <p:spPr>
          <a:xfrm>
            <a:off x="3986280" y="4510080"/>
            <a:ext cx="1150920" cy="1150920"/>
          </a:xfrm>
          <a:prstGeom prst="rect">
            <a:avLst/>
          </a:prstGeom>
          <a:ln w="0">
            <a:noFill/>
          </a:ln>
        </p:spPr>
      </p:pic>
      <p:sp>
        <p:nvSpPr>
          <p:cNvPr id="146" name="文本框 30723"/>
          <p:cNvSpPr/>
          <p:nvPr/>
        </p:nvSpPr>
        <p:spPr>
          <a:xfrm>
            <a:off x="2401920" y="33195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另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档。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击此处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30724" descr="学英语报社社标s"/>
          <p:cNvPicPr/>
          <p:nvPr/>
        </p:nvPicPr>
        <p:blipFill>
          <a:blip r:embed="rId3"/>
          <a:stretch/>
        </p:blipFill>
        <p:spPr>
          <a:xfrm>
            <a:off x="0" y="6651720"/>
            <a:ext cx="533520" cy="2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31745"/>
          <p:cNvSpPr/>
          <p:nvPr/>
        </p:nvSpPr>
        <p:spPr>
          <a:xfrm>
            <a:off x="539640" y="692280"/>
            <a:ext cx="8136000" cy="64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选择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is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或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has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完成下列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Lily _____ short and ____ curly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im ____ tall, and his sister ____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Lucy _____ beautiful long black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Betty’s mother ____ of 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Mike _____ curly black hair and 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 very th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1746"/>
          <p:cNvSpPr/>
          <p:nvPr/>
        </p:nvSpPr>
        <p:spPr>
          <a:xfrm>
            <a:off x="2268000" y="147492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                        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31747"/>
          <p:cNvSpPr/>
          <p:nvPr/>
        </p:nvSpPr>
        <p:spPr>
          <a:xfrm>
            <a:off x="2224080" y="2201760"/>
            <a:ext cx="50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                                   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1748"/>
          <p:cNvSpPr/>
          <p:nvPr/>
        </p:nvSpPr>
        <p:spPr>
          <a:xfrm>
            <a:off x="2339640" y="363528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1749"/>
          <p:cNvSpPr/>
          <p:nvPr/>
        </p:nvSpPr>
        <p:spPr>
          <a:xfrm>
            <a:off x="4356000" y="4356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1750"/>
          <p:cNvSpPr/>
          <p:nvPr/>
        </p:nvSpPr>
        <p:spPr>
          <a:xfrm>
            <a:off x="1114560" y="4930920"/>
            <a:ext cx="23270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32769"/>
          <p:cNvSpPr/>
          <p:nvPr/>
        </p:nvSpPr>
        <p:spPr>
          <a:xfrm>
            <a:off x="108000" y="7128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根据汉语完成下列英语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—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玛丽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高个子，留着长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es Mary ______ _____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—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’s _____ _____ long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爸爸中等身材，短头发，戴眼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 father is ____ ________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______ _____ and 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琳达是一位中等身高，留着长卷发的女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nda is a girl of ________ ________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e _____ _____ ______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2770"/>
          <p:cNvSpPr/>
          <p:nvPr/>
        </p:nvSpPr>
        <p:spPr>
          <a:xfrm>
            <a:off x="414036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edium  h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2771"/>
          <p:cNvSpPr/>
          <p:nvPr/>
        </p:nvSpPr>
        <p:spPr>
          <a:xfrm>
            <a:off x="2629080" y="227664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all  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2772"/>
          <p:cNvSpPr/>
          <p:nvPr/>
        </p:nvSpPr>
        <p:spPr>
          <a:xfrm>
            <a:off x="4861440" y="1708200"/>
            <a:ext cx="20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  l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2773"/>
          <p:cNvSpPr/>
          <p:nvPr/>
        </p:nvSpPr>
        <p:spPr>
          <a:xfrm>
            <a:off x="1838160" y="3895560"/>
            <a:ext cx="51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    hair           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2774"/>
          <p:cNvSpPr/>
          <p:nvPr/>
        </p:nvSpPr>
        <p:spPr>
          <a:xfrm>
            <a:off x="3349800" y="3313080"/>
            <a:ext cx="57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f     medium   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2775"/>
          <p:cNvSpPr/>
          <p:nvPr/>
        </p:nvSpPr>
        <p:spPr>
          <a:xfrm>
            <a:off x="1549440" y="610092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s    long   cur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9"/>
          <p:cNvSpPr/>
          <p:nvPr/>
        </p:nvSpPr>
        <p:spPr>
          <a:xfrm>
            <a:off x="723960" y="349200"/>
            <a:ext cx="7016760" cy="752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Translate and write them d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3794"/>
          <p:cNvSpPr/>
          <p:nvPr/>
        </p:nvSpPr>
        <p:spPr>
          <a:xfrm>
            <a:off x="682560" y="1212840"/>
            <a:ext cx="59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总是留一头长直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长得漂亮但有些内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很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留着卷发还是直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3795"/>
          <p:cNvSpPr/>
          <p:nvPr/>
        </p:nvSpPr>
        <p:spPr>
          <a:xfrm>
            <a:off x="1114560" y="1717560"/>
            <a:ext cx="6984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e always has long straight hai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3796"/>
          <p:cNvSpPr/>
          <p:nvPr/>
        </p:nvSpPr>
        <p:spPr>
          <a:xfrm>
            <a:off x="1187280" y="2941560"/>
            <a:ext cx="720108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e’s good-looking but she’s a little bit qu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3797"/>
          <p:cNvSpPr/>
          <p:nvPr/>
        </p:nvSpPr>
        <p:spPr>
          <a:xfrm>
            <a:off x="1187280" y="4543560"/>
            <a:ext cx="6120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He is really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hand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33798"/>
          <p:cNvSpPr/>
          <p:nvPr/>
        </p:nvSpPr>
        <p:spPr>
          <a:xfrm>
            <a:off x="1187280" y="5749920"/>
            <a:ext cx="741708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Does he hav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urly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or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straight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h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55299"/>
          <p:cNvSpPr/>
          <p:nvPr/>
        </p:nvSpPr>
        <p:spPr>
          <a:xfrm>
            <a:off x="304920" y="3049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 Narrow"/>
              </a:rPr>
              <a:t>Fill in the blanks with proper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55300"/>
          <p:cNvSpPr/>
          <p:nvPr/>
        </p:nvSpPr>
        <p:spPr>
          <a:xfrm>
            <a:off x="457200" y="1295280"/>
            <a:ext cx="83059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are four people in Tony’s family. His father _____(have/has) black hair. He _____(is/isn’t) tall or short. He ___(is/has) of medium height. His mother _____(is/has) curly hair. His sister ____(is/has) straight hair. She ____(is/has) th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55301"/>
          <p:cNvSpPr/>
          <p:nvPr/>
        </p:nvSpPr>
        <p:spPr>
          <a:xfrm>
            <a:off x="2736720" y="2101680"/>
            <a:ext cx="20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5302"/>
          <p:cNvSpPr/>
          <p:nvPr/>
        </p:nvSpPr>
        <p:spPr>
          <a:xfrm>
            <a:off x="1203480" y="2711520"/>
            <a:ext cx="268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55303"/>
          <p:cNvSpPr/>
          <p:nvPr/>
        </p:nvSpPr>
        <p:spPr>
          <a:xfrm>
            <a:off x="609480" y="34290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55304"/>
          <p:cNvSpPr/>
          <p:nvPr/>
        </p:nvSpPr>
        <p:spPr>
          <a:xfrm>
            <a:off x="533520" y="41911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5305"/>
          <p:cNvSpPr/>
          <p:nvPr/>
        </p:nvSpPr>
        <p:spPr>
          <a:xfrm>
            <a:off x="533520" y="4876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55306"/>
          <p:cNvSpPr/>
          <p:nvPr/>
        </p:nvSpPr>
        <p:spPr>
          <a:xfrm>
            <a:off x="6629400" y="4800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文本框 49153"/>
          <p:cNvSpPr/>
          <p:nvPr/>
        </p:nvSpPr>
        <p:spPr>
          <a:xfrm>
            <a:off x="539640" y="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GulimChe"/>
              </a:rPr>
              <a:t>描述长相用动词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GulimChe"/>
              </a:rPr>
              <a:t>be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GulimChe"/>
              </a:rPr>
              <a:t>还是 </a:t>
            </a:r>
            <a:r>
              <a:rPr b="1" i="1" lang="en-US" sz="3600" spc="-1" strike="noStrike">
                <a:solidFill>
                  <a:srgbClr val="cc0000"/>
                </a:solidFill>
                <a:latin typeface="Times New Roman"/>
                <a:ea typeface="GulimChe"/>
              </a:rPr>
              <a:t>have/has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GulimCh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58920" y="838080"/>
          <a:ext cx="3817800" cy="374328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374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r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avy/fa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n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ald </a:t>
                      </a:r>
                      <a:r>
                        <a:rPr b="1" lang="zh-CN" sz="3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秃头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 medium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e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187280" y="4724280"/>
          <a:ext cx="7956720" cy="1225440"/>
        </p:xfrm>
        <a:graphic>
          <a:graphicData uri="http://schemas.openxmlformats.org/drawingml/2006/table">
            <a:tbl>
              <a:tblPr/>
              <a:tblGrid>
                <a:gridCol w="7956720"/>
              </a:tblGrid>
              <a:tr h="12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/short/curly/straight/black/brown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ha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 round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eyes/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big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n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文本框 49166"/>
          <p:cNvSpPr/>
          <p:nvPr/>
        </p:nvSpPr>
        <p:spPr>
          <a:xfrm>
            <a:off x="4952880" y="620640"/>
            <a:ext cx="40672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词后通常为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包括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身高、体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49167"/>
          <p:cNvSpPr/>
          <p:nvPr/>
        </p:nvSpPr>
        <p:spPr>
          <a:xfrm>
            <a:off x="4932360" y="2852640"/>
            <a:ext cx="403236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ve/ha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通常为形容词修饰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49168"/>
          <p:cNvGrpSpPr/>
          <p:nvPr/>
        </p:nvGrpSpPr>
        <p:grpSpPr>
          <a:xfrm>
            <a:off x="395280" y="765000"/>
            <a:ext cx="934920" cy="3816360"/>
            <a:chOff x="395280" y="765000"/>
            <a:chExt cx="934920" cy="3816360"/>
          </a:xfrm>
        </p:grpSpPr>
        <p:sp>
          <p:nvSpPr>
            <p:cNvPr id="181" name="文本框 49169"/>
            <p:cNvSpPr/>
            <p:nvPr/>
          </p:nvSpPr>
          <p:spPr>
            <a:xfrm>
              <a:off x="395280" y="2276640"/>
              <a:ext cx="72072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00"/>
                  </a:solidFill>
                  <a:latin typeface="Times New Roman"/>
                </a:rPr>
                <a:t>be</a:t>
              </a:r>
              <a:r>
                <a:rPr b="1" lang="en-US" sz="4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左大括号 49170"/>
            <p:cNvSpPr/>
            <p:nvPr/>
          </p:nvSpPr>
          <p:spPr>
            <a:xfrm>
              <a:off x="971280" y="765000"/>
              <a:ext cx="358920" cy="3816360"/>
            </a:xfrm>
            <a:custGeom>
              <a:avLst/>
              <a:gdLst>
                <a:gd name="textAreaLeft" fmla="*/ 229320 w 358920"/>
                <a:gd name="textAreaRight" fmla="*/ 359280 w 358920"/>
                <a:gd name="textAreaTop" fmla="*/ 99360 h 3816360"/>
                <a:gd name="textAreaBottom" fmla="*/ 3717000 h 381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49171"/>
          <p:cNvGrpSpPr/>
          <p:nvPr/>
        </p:nvGrpSpPr>
        <p:grpSpPr>
          <a:xfrm>
            <a:off x="179280" y="4724280"/>
            <a:ext cx="1224000" cy="1068840"/>
            <a:chOff x="179280" y="4724280"/>
            <a:chExt cx="1224000" cy="1068840"/>
          </a:xfrm>
        </p:grpSpPr>
        <p:sp>
          <p:nvSpPr>
            <p:cNvPr id="184" name="文本框 49172"/>
            <p:cNvSpPr/>
            <p:nvPr/>
          </p:nvSpPr>
          <p:spPr>
            <a:xfrm>
              <a:off x="179280" y="4724280"/>
              <a:ext cx="1008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0000"/>
                  </a:solidFill>
                  <a:latin typeface="Times New Roman"/>
                </a:rPr>
                <a:t>have/has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左大括号 49173"/>
            <p:cNvSpPr/>
            <p:nvPr/>
          </p:nvSpPr>
          <p:spPr>
            <a:xfrm>
              <a:off x="1116000" y="4940280"/>
              <a:ext cx="287280" cy="82692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21240 h 826920"/>
                <a:gd name="textAreaBottom" fmla="*/ 805680 h 82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矩形 49174"/>
          <p:cNvSpPr/>
          <p:nvPr/>
        </p:nvSpPr>
        <p:spPr>
          <a:xfrm>
            <a:off x="251280" y="609300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PMingLiU"/>
              </a:rPr>
              <a:t>w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49175"/>
          <p:cNvSpPr/>
          <p:nvPr/>
        </p:nvSpPr>
        <p:spPr>
          <a:xfrm>
            <a:off x="1332000" y="609300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glas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眼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a hat/ a T-shirt/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9176"/>
          <p:cNvSpPr/>
          <p:nvPr/>
        </p:nvSpPr>
        <p:spPr>
          <a:xfrm>
            <a:off x="4932360" y="3886200"/>
            <a:ext cx="39607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ar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通常接衣服、眼镜等装饰品的名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49177"/>
          <p:cNvSpPr txBox="1"/>
          <p:nvPr/>
        </p:nvSpPr>
        <p:spPr>
          <a:xfrm>
            <a:off x="4356000" y="1676520"/>
            <a:ext cx="364500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Revision</a:t>
            </a: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复习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0241"/>
          <p:cNvSpPr/>
          <p:nvPr/>
        </p:nvSpPr>
        <p:spPr>
          <a:xfrm>
            <a:off x="1547640" y="2492280"/>
            <a:ext cx="2303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and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c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242"/>
          <p:cNvSpPr/>
          <p:nvPr/>
        </p:nvSpPr>
        <p:spPr>
          <a:xfrm>
            <a:off x="4140360" y="2492280"/>
            <a:ext cx="28429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演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女演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243"/>
          <p:cNvGrpSpPr/>
          <p:nvPr/>
        </p:nvGrpSpPr>
        <p:grpSpPr>
          <a:xfrm>
            <a:off x="1447920" y="1295280"/>
            <a:ext cx="6480000" cy="765360"/>
            <a:chOff x="1447920" y="1295280"/>
            <a:chExt cx="6480000" cy="765360"/>
          </a:xfrm>
        </p:grpSpPr>
        <p:pic>
          <p:nvPicPr>
            <p:cNvPr id="91" name="Picture 3" descr="BAN_228"/>
            <p:cNvPicPr/>
            <p:nvPr/>
          </p:nvPicPr>
          <p:blipFill>
            <a:blip r:embed="rId2"/>
            <a:stretch/>
          </p:blipFill>
          <p:spPr>
            <a:xfrm>
              <a:off x="1447920" y="1295280"/>
              <a:ext cx="648000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文本框 10245"/>
            <p:cNvSpPr/>
            <p:nvPr/>
          </p:nvSpPr>
          <p:spPr>
            <a:xfrm>
              <a:off x="2454480" y="1374840"/>
              <a:ext cx="489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Words Review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51201"/>
          <p:cNvSpPr/>
          <p:nvPr/>
        </p:nvSpPr>
        <p:spPr>
          <a:xfrm>
            <a:off x="533520" y="14000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Now 2 mins to test your spell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51202"/>
          <p:cNvSpPr txBox="1"/>
          <p:nvPr/>
        </p:nvSpPr>
        <p:spPr>
          <a:xfrm>
            <a:off x="2819520" y="561960"/>
            <a:ext cx="329544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Spelling Bee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92" name="文本框 51203"/>
          <p:cNvSpPr/>
          <p:nvPr/>
        </p:nvSpPr>
        <p:spPr>
          <a:xfrm>
            <a:off x="611280" y="2146320"/>
            <a:ext cx="8229600" cy="237384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1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English-Chi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tor, actress, p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Chinese-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英俊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51204"/>
          <p:cNvSpPr/>
          <p:nvPr/>
        </p:nvSpPr>
        <p:spPr>
          <a:xfrm>
            <a:off x="900000" y="5170320"/>
            <a:ext cx="78487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When finishing, exchange your papers to see who does the b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51205" descr="th (5)"/>
          <p:cNvPicPr/>
          <p:nvPr/>
        </p:nvPicPr>
        <p:blipFill>
          <a:blip r:embed="rId2"/>
          <a:stretch/>
        </p:blipFill>
        <p:spPr>
          <a:xfrm>
            <a:off x="6553080" y="333360"/>
            <a:ext cx="13766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35842"/>
          <p:cNvSpPr txBox="1"/>
          <p:nvPr/>
        </p:nvSpPr>
        <p:spPr>
          <a:xfrm>
            <a:off x="2895480" y="457200"/>
            <a:ext cx="331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文本框 35845"/>
          <p:cNvSpPr/>
          <p:nvPr/>
        </p:nvSpPr>
        <p:spPr>
          <a:xfrm>
            <a:off x="457200" y="1898640"/>
            <a:ext cx="831528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Preview the new words and expres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Preview 1a-1b on page 5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457200" y="3276720"/>
            <a:ext cx="800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Write a passage about your friend. You may begin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85800" y="4584600"/>
            <a:ext cx="6265800" cy="1739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a new friend today. His name is… He is very tall. He is of medium build. He h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内容占位符 64513" descr=""/>
          <p:cNvPicPr/>
          <p:nvPr/>
        </p:nvPicPr>
        <p:blipFill>
          <a:blip r:embed="rId2"/>
          <a:stretch/>
        </p:blipFill>
        <p:spPr>
          <a:xfrm>
            <a:off x="6516720" y="3141720"/>
            <a:ext cx="2627280" cy="371628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64514"/>
          <p:cNvSpPr/>
          <p:nvPr/>
        </p:nvSpPr>
        <p:spPr>
          <a:xfrm>
            <a:off x="2557800" y="21016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4515"/>
          <p:cNvSpPr/>
          <p:nvPr/>
        </p:nvSpPr>
        <p:spPr>
          <a:xfrm>
            <a:off x="5508720" y="21016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ig 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64516"/>
          <p:cNvSpPr/>
          <p:nvPr/>
        </p:nvSpPr>
        <p:spPr>
          <a:xfrm>
            <a:off x="3132000" y="31813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4517"/>
          <p:cNvSpPr/>
          <p:nvPr/>
        </p:nvSpPr>
        <p:spPr>
          <a:xfrm>
            <a:off x="4284720" y="42609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4518"/>
          <p:cNvSpPr/>
          <p:nvPr/>
        </p:nvSpPr>
        <p:spPr>
          <a:xfrm>
            <a:off x="468360" y="48369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64519"/>
          <p:cNvSpPr/>
          <p:nvPr/>
        </p:nvSpPr>
        <p:spPr>
          <a:xfrm>
            <a:off x="468360" y="33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组合 64520"/>
          <p:cNvGrpSpPr/>
          <p:nvPr/>
        </p:nvGrpSpPr>
        <p:grpSpPr>
          <a:xfrm>
            <a:off x="324000" y="0"/>
            <a:ext cx="9072360" cy="6605280"/>
            <a:chOff x="324000" y="0"/>
            <a:chExt cx="9072360" cy="6605280"/>
          </a:xfrm>
        </p:grpSpPr>
        <p:sp>
          <p:nvSpPr>
            <p:cNvPr id="101" name="文本框 64521"/>
            <p:cNvSpPr/>
            <p:nvPr/>
          </p:nvSpPr>
          <p:spPr>
            <a:xfrm>
              <a:off x="324000" y="476280"/>
              <a:ext cx="7921440" cy="61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A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Do you know I have a new friend in  Class Fiv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B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What does she look like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A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She has ____ ____and ____ _____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B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s she tall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A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No, she’s _______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B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I think I know her. Sh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lways wears a red _____ and       ______shoes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Times New Roman"/>
                </a:rPr>
                <a:t>A: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Yes, that’s her. Her name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is Nancy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64522"/>
            <p:cNvSpPr/>
            <p:nvPr/>
          </p:nvSpPr>
          <p:spPr>
            <a:xfrm>
              <a:off x="324000" y="0"/>
              <a:ext cx="907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ff"/>
                  </a:solidFill>
                  <a:latin typeface="Bookman Old Style"/>
                </a:rPr>
                <a:t>Describe Nancy according to the picture.</a:t>
              </a:r>
              <a:r>
                <a:rPr b="1" lang="en-US" sz="3200" spc="-1" strike="noStrike">
                  <a:solidFill>
                    <a:srgbClr val="cc00ff"/>
                  </a:solidFill>
                  <a:latin typeface="Bookman Old Styl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68609"/>
          <p:cNvSpPr/>
          <p:nvPr/>
        </p:nvSpPr>
        <p:spPr>
          <a:xfrm>
            <a:off x="2743200" y="8380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如何描述相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68610"/>
          <p:cNvSpPr/>
          <p:nvPr/>
        </p:nvSpPr>
        <p:spPr>
          <a:xfrm>
            <a:off x="539640" y="1628640"/>
            <a:ext cx="813780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常用来描述人物相貌的词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ight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all, short, 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uild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in, heavy, of medium b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ir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hort, long, straight, curly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onde, black, brow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67585"/>
          <p:cNvSpPr/>
          <p:nvPr/>
        </p:nvSpPr>
        <p:spPr>
          <a:xfrm>
            <a:off x="324000" y="189000"/>
            <a:ext cx="842472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常用来描述人物相貌的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is / are + tall / short / thin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avy / good-looking / … (+ with 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has / have + long / short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ly / straight + black / brown /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onde +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is / are + of medium height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u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wear(s)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衣服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 gla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语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has / have + a beard / bea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838080" y="1407960"/>
            <a:ext cx="6696360" cy="4781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What does he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lik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’s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really tal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Wha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es s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She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has long straight hai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What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o the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They’re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of medium buil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6564"/>
          <p:cNvSpPr/>
          <p:nvPr/>
        </p:nvSpPr>
        <p:spPr>
          <a:xfrm>
            <a:off x="1326600" y="457200"/>
            <a:ext cx="34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提问人物相貌的句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762120" y="1371600"/>
            <a:ext cx="7777080" cy="40024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 Do they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ve straight or curly hai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have curly hai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he 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tall or shor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isn’t tall or short. He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of med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179280" y="620640"/>
            <a:ext cx="8785440" cy="560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rite these words in the correct box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338"/>
          <p:cNvSpPr/>
          <p:nvPr/>
        </p:nvSpPr>
        <p:spPr>
          <a:xfrm>
            <a:off x="539640" y="1341360"/>
            <a:ext cx="7993080" cy="22885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rt hair     heavy   curly hair     thin               young       tall      straight hair      sh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ng hair             of medium h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9640" y="3357720"/>
          <a:ext cx="7993080" cy="302400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矩形 14350"/>
          <p:cNvSpPr/>
          <p:nvPr/>
        </p:nvSpPr>
        <p:spPr>
          <a:xfrm>
            <a:off x="746280" y="4076640"/>
            <a:ext cx="389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heavy, th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tall, shor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Times New Roman"/>
              </a:rPr>
              <a:t>of medium height,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351"/>
          <p:cNvSpPr/>
          <p:nvPr/>
        </p:nvSpPr>
        <p:spPr>
          <a:xfrm>
            <a:off x="4572000" y="4292640"/>
            <a:ext cx="407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hort hair, curly hair, straight hair, long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4352"/>
          <p:cNvSpPr/>
          <p:nvPr/>
        </p:nvSpPr>
        <p:spPr>
          <a:xfrm>
            <a:off x="152280" y="533520"/>
            <a:ext cx="723960" cy="579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8"/>
          <p:cNvSpPr/>
          <p:nvPr/>
        </p:nvSpPr>
        <p:spPr>
          <a:xfrm>
            <a:off x="304920" y="1066680"/>
            <a:ext cx="853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So what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o/do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your friend Clar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li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Well,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/h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in, and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ve/ h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lack ha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Really?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/Do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he tall or sh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s/ isn’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all or short. He is/ ha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um he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: Does 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as/ha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urly or straight hai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: H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is/ha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raight hair. And he is/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ly hands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838080" y="0"/>
            <a:ext cx="8498160" cy="10810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ircle the correct words to complete the convers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182760" y="1143000"/>
            <a:ext cx="10083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2616120" y="2238480"/>
            <a:ext cx="432000" cy="519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2438280" y="3276720"/>
            <a:ext cx="576360" cy="5760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7391520" y="2224080"/>
            <a:ext cx="914400" cy="519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8"/>
          <p:cNvSpPr/>
          <p:nvPr/>
        </p:nvSpPr>
        <p:spPr>
          <a:xfrm>
            <a:off x="76320" y="76320"/>
            <a:ext cx="723960" cy="5792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00e2"/>
                </a:solidFill>
                <a:latin typeface="Arial Black"/>
                <a:ea typeface="黑体"/>
              </a:rPr>
              <a:t>3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2057400" y="3886200"/>
            <a:ext cx="10764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6324480" y="3900600"/>
            <a:ext cx="457200" cy="519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3276720" y="4967280"/>
            <a:ext cx="1076040" cy="519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1981080" y="5562720"/>
            <a:ext cx="863640" cy="5331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6964200" y="5514840"/>
            <a:ext cx="503280" cy="51912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9T22:53:11Z</dcterms:created>
  <dc:creator/>
  <dc:description/>
  <dc:language>en-US</dc:language>
  <cp:lastModifiedBy>Administrator</cp:lastModifiedBy>
  <dcterms:modified xsi:type="dcterms:W3CDTF">2018-05-30T23:58:24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  <property fmtid="{D5CDD505-2E9C-101B-9397-08002B2CF9AE}" pid="3" name="Version">
    <vt:r8>1</vt:r8>
  </property>
</Properties>
</file>